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6A6-D52C-4B96-A7E1-8A11E9BA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2A7-26B4-494E-8424-5EAEC0FE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853-7F47-4A1B-9ECE-59BCB54B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562-5A9C-4A94-8D98-6558BA1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277D-C9D5-4B59-BA79-E29153D3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73D2-0757-4CFE-B134-66B2464D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6034-75D4-4A2B-93DE-92E6A48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F23-BF80-403F-9AD1-1617E428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21CE-119A-482B-912D-E0D8B367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192D-FB13-4969-B98D-5B5AB045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C1A7-C0E2-40FB-A1B5-C744D8A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6E5-F002-43AD-941A-EA28EE9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D96C-DFC1-45F7-A0A5-112E7EF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79C1-6CA0-4E88-BFA0-7D57E45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3DEE-28B2-441C-94F4-B5D778D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705F-E85F-4D73-A454-6A1022B9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CB9F-3721-477D-997E-00CA6ED4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BEA-E412-417C-8181-8674E584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65F-2BA9-4FEA-AB65-C05E3EAD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8F7-B221-406A-B3B0-2E71BCE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EA4-8152-46FD-8D24-F6C75E16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B11-5574-4A86-B3C3-4BC743B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872-96D0-4B0F-B514-87D071E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D97-23A8-48A6-88C5-91EB67A8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A8A-A097-461F-BF2B-B99519E0ED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28C6-146E-4B2B-8451-7F3D635A45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556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Me llamo ________         Clase 6NH</a:t>
            </a:r>
            <a:br>
              <a:rPr sz="3200"/>
            </a:b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La fecha es el 13 de febrero de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Llevas uniforme a la escuel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pi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omic Sans MS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p. R11 (1-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mbra los siguientes articulos de rop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               3.                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6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0120" y="20574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857680" y="2190600"/>
            <a:ext cx="1866600" cy="161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124080" y="5019840"/>
            <a:ext cx="1762200" cy="1761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33520" y="4800600"/>
            <a:ext cx="1523880" cy="1609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848720" y="4419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29200" y="1752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05120" y="2819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84012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809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6576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3581280"/>
            <a:ext cx="1524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3104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éte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91120" y="6553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23720" y="57913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61261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62784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410080"/>
            <a:ext cx="2133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os 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5943600"/>
            <a:ext cx="1676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de vest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543800" y="5562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619760" y="6324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1845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m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co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191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200"/>
                </a:solidFill>
                <a:latin typeface="Verdana"/>
              </a:rPr>
              <a:t>manga lar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s Vocabul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mbra las siguientes cosa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              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109960" cy="1071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799240" y="18288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981840" y="1828800"/>
            <a:ext cx="117144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914400" y="3886200"/>
            <a:ext cx="1824120" cy="1415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505320" y="3657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162840" y="3733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0120" y="5257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89548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12408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97180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352680"/>
            <a:ext cx="1981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25780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57150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54100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a t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5105520"/>
            <a:ext cx="2286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mpleado/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5638680"/>
            <a:ext cx="2286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l/la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4800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istorieta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. R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a p. R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36232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rea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43:26Z</dcterms:created>
  <dc:creator>Helen Zumaeta</dc:creator>
  <dc:description/>
  <dc:language>en-US</dc:language>
  <cp:lastModifiedBy>Helen Zumaeta</cp:lastModifiedBy>
  <dcterms:modified xsi:type="dcterms:W3CDTF">2012-02-08T18:27:43Z</dcterms:modified>
  <cp:revision>2</cp:revision>
  <dc:subject/>
  <dc:title>Me llamo ________         Clase 6NH La fecha es el 13 de febrero de 2012</dc:title>
</cp:coreProperties>
</file>